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BEF-5B74-4501-8B7F-A527C2BE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9C8-F671-41B6-83DC-EA321DC1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D8A-06FC-4586-803C-06127BD6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853-3CF2-412D-9DC2-8564CE13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10E-8C68-4366-8048-E67614C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8B5-9FDC-4E54-9034-26C6E26E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612-02D8-466B-B6E5-10751F4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63A-F6E7-438F-A2D6-482B3BB6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35B-B717-4DF5-AF67-D9A59CD7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C00-44CE-4C71-B7C2-6529EB0E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2A7-1E9D-48D4-A78F-A2CBCB5E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449-4AAD-424C-9DFE-B39015A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6199-4056-43D2-9E94-7B74F3FF9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ive C’s of Managing the Digital Librar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, Cooperation, Coordination, Collaboration, and Cross-Train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R. D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clair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th Annual Computers in Libraries ‘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8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gital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gital Library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05000" y="2793960"/>
          <a:ext cx="6715080" cy="54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2793960"/>
                    <a:ext cx="6715080" cy="54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m Support of Digital Library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ss-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ing the Digital Library 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90480" y="2289240"/>
          <a:ext cx="7871040" cy="366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289240"/>
                    <a:ext cx="787104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 Support of the Digital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E-mail Notification of Fai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Based Forms for Questions/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s to Common Questions in FAQ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User Techniques in Online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rtunities for Managing the Digital Library 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Recruitment from D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le Scheduling for 24 x 7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commuting to Retain Effectiv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Staff for New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9T16:31:27Z</dcterms:created>
  <dc:creator>Dr. Robert R. Downs</dc:creator>
  <dc:description/>
  <dc:language>en-US</dc:language>
  <cp:lastModifiedBy>William C. Spence</cp:lastModifiedBy>
  <dcterms:modified xsi:type="dcterms:W3CDTF">1999-03-17T01:59:00Z</dcterms:modified>
  <cp:revision>8</cp:revision>
  <dc:subject/>
  <dc:title>The Five C’s of Managing the Digital Library: Communication, Cooperation, Coordination, Collaboration, and Cross-Trai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680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ITWEB\cil99\ppt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